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42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9.jpeg" ContentType="image/jpeg"/>
  <Override PartName="/ppt/media/image28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23.png" ContentType="image/png"/>
  <Override PartName="/ppt/media/image13.jpeg" ContentType="image/jpeg"/>
  <Override PartName="/ppt/media/image3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39.png" ContentType="image/png"/>
  <Override PartName="/ppt/media/image41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43.png" ContentType="image/png"/>
  <Override PartName="/ppt/media/image15.jpeg" ContentType="image/jpeg"/>
  <Override PartName="/ppt/media/image37.png" ContentType="image/png"/>
  <Override PartName="/ppt/media/image7.png" ContentType="image/png"/>
  <Override PartName="/ppt/media/image1.jpeg" ContentType="image/jpeg"/>
  <Override PartName="/ppt/media/image25.jpeg" ContentType="image/jpeg"/>
  <Override PartName="/ppt/media/image32.png" ContentType="image/png"/>
  <Override PartName="/ppt/media/image34.png" ContentType="image/png"/>
  <Override PartName="/ppt/media/image12.jpeg" ContentType="image/jpeg"/>
  <Override PartName="/ppt/media/image36.png" ContentType="image/png"/>
  <Override PartName="/ppt/media/image6.png" ContentType="image/pn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F4140-BAFB-4A38-989A-04EE0D0C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F228A-5EE4-4192-8125-8C9A8484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DC2B8-0327-4576-B260-1E6ECE2D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7F819-658C-4C6F-A6E5-EBDA40E6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04EE-DB8C-4E91-9183-744EE569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0380-1DDE-4546-9D05-14CA6898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76A9-B056-4930-8133-43CCC29D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256E-8023-4061-803B-0CE74724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11DB-88EF-4CBD-93E2-1B44817B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73E2-6224-4E5B-ADDF-E29A4ADD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4EE9-D862-4EDC-9CF3-DA7D4D45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98E15-21AE-4348-852C-BAD80195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B7B0-B9BD-4E6C-9EF5-EC77882C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E1CB-06FF-431C-8E20-795116B1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34F5-FCDB-4243-A44E-FF3EB38A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BE0E-8B5F-47D8-9704-C8A1714A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DD83-DED5-4063-B7FD-53B1B264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3AA6B-225E-4519-A48B-29D2C8EB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38C11-FE39-40F3-A731-C8E79728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1936D-DBB3-4AAB-A504-D4E5B09D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C3101-0937-4184-80C8-E4404A1D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01E05-8F16-44B7-B478-2E03E8F0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CA83C-9756-45AD-BFFE-93A7F61D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F330B-32CA-4F36-B0CD-20B9ED2D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6759-C320-48FF-B2D7-1A737038B3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8948-98DF-4988-A525-739AC2A706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О чём говорят знаки. 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          2 класс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лашникова Наталья Ивановна учитель высшей категор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ГБОУ «Заринская общеобразовательная школа-интерна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2195640" y="692280"/>
            <a:ext cx="5040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ещающи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WordArt 3"/>
          <p:cNvSpPr txBox="1"/>
          <p:nvPr/>
        </p:nvSpPr>
        <p:spPr>
          <a:xfrm>
            <a:off x="2771640" y="1773360"/>
            <a:ext cx="367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то-либо запрещаю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дител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7" name="WordArt 4"/>
          <p:cNvSpPr txBox="1"/>
          <p:nvPr/>
        </p:nvSpPr>
        <p:spPr>
          <a:xfrm>
            <a:off x="2700360" y="400536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8" name="WordArt 5"/>
          <p:cNvSpPr txBox="1"/>
          <p:nvPr/>
        </p:nvSpPr>
        <p:spPr>
          <a:xfrm>
            <a:off x="2987640" y="4724280"/>
            <a:ext cx="3529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лые или синие кру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 красной кайм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59" name="Picture 8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1741680" cy="1741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1741320" cy="1741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"/>
          <p:cNvPicPr/>
          <p:nvPr/>
        </p:nvPicPr>
        <p:blipFill>
          <a:blip r:embed="rId3"/>
          <a:stretch/>
        </p:blipFill>
        <p:spPr>
          <a:xfrm>
            <a:off x="7020000" y="1623960"/>
            <a:ext cx="1695240" cy="1663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"/>
          <p:cNvPicPr/>
          <p:nvPr/>
        </p:nvPicPr>
        <p:blipFill>
          <a:blip r:embed="rId4"/>
          <a:stretch/>
        </p:blipFill>
        <p:spPr>
          <a:xfrm>
            <a:off x="7093080" y="4221000"/>
            <a:ext cx="1655640" cy="165600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13">
            <a:hlinkClick r:id="" action="ppaction://hlinkshowjump?jump=nextslide"/>
          </p:cNvPr>
          <p:cNvSpPr/>
          <p:nvPr/>
        </p:nvSpPr>
        <p:spPr>
          <a:xfrm>
            <a:off x="8101080" y="6093000"/>
            <a:ext cx="574560" cy="43164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746" h="21600">
                <a:moveTo>
                  <a:pt x="0" y="0"/>
                </a:moveTo>
                <a:lnTo>
                  <a:pt x="28746" y="0"/>
                </a:lnTo>
                <a:lnTo>
                  <a:pt x="28746" y="21600"/>
                </a:lnTo>
                <a:lnTo>
                  <a:pt x="0" y="21600"/>
                </a:lnTo>
                <a:close/>
              </a:path>
              <a:path fill="lightenLess" w="28746" h="21600">
                <a:moveTo>
                  <a:pt x="0" y="0"/>
                </a:moveTo>
                <a:lnTo>
                  <a:pt x="28746" y="0"/>
                </a:lnTo>
                <a:lnTo>
                  <a:pt x="27346" y="1400"/>
                </a:lnTo>
                <a:lnTo>
                  <a:pt x="1400" y="1400"/>
                </a:lnTo>
                <a:close/>
              </a:path>
              <a:path fill="darken" w="28746" h="21600">
                <a:moveTo>
                  <a:pt x="28746" y="0"/>
                </a:moveTo>
                <a:lnTo>
                  <a:pt x="28746" y="21600"/>
                </a:lnTo>
                <a:lnTo>
                  <a:pt x="27346" y="20200"/>
                </a:lnTo>
                <a:lnTo>
                  <a:pt x="27346" y="1400"/>
                </a:lnTo>
                <a:close/>
              </a:path>
              <a:path fill="darkenLess" w="28746" h="21600">
                <a:moveTo>
                  <a:pt x="28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6" y="20200"/>
                </a:lnTo>
                <a:close/>
              </a:path>
              <a:path fill="lighten" w="28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6" h="21600">
                <a:moveTo>
                  <a:pt x="7367" y="3794"/>
                </a:moveTo>
                <a:lnTo>
                  <a:pt x="21379" y="10800"/>
                </a:lnTo>
                <a:lnTo>
                  <a:pt x="7367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писывающи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"/>
          <p:cNvPicPr/>
          <p:nvPr/>
        </p:nvPicPr>
        <p:blipFill>
          <a:blip r:embed="rId1"/>
          <a:stretch/>
        </p:blipFill>
        <p:spPr>
          <a:xfrm>
            <a:off x="250920" y="1741320"/>
            <a:ext cx="856908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2050920" y="692280"/>
            <a:ext cx="5295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писывающи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WordArt 5"/>
          <p:cNvSpPr txBox="1"/>
          <p:nvPr/>
        </p:nvSpPr>
        <p:spPr>
          <a:xfrm>
            <a:off x="4140360" y="1557360"/>
            <a:ext cx="396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едписывают направл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виж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8" name="WordArt 6"/>
          <p:cNvSpPr txBox="1"/>
          <p:nvPr/>
        </p:nvSpPr>
        <p:spPr>
          <a:xfrm>
            <a:off x="4427640" y="378936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9" name="WordArt 7"/>
          <p:cNvSpPr txBox="1"/>
          <p:nvPr/>
        </p:nvSpPr>
        <p:spPr>
          <a:xfrm>
            <a:off x="4932360" y="4581360"/>
            <a:ext cx="29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ние круг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 белым рисунк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70" name="Picture 10" descr=""/>
          <p:cNvPicPr/>
          <p:nvPr/>
        </p:nvPicPr>
        <p:blipFill>
          <a:blip r:embed="rId1"/>
          <a:stretch/>
        </p:blipFill>
        <p:spPr>
          <a:xfrm>
            <a:off x="1979640" y="14986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"/>
          <p:cNvPicPr/>
          <p:nvPr/>
        </p:nvPicPr>
        <p:blipFill>
          <a:blip r:embed="rId2"/>
          <a:stretch/>
        </p:blipFill>
        <p:spPr>
          <a:xfrm>
            <a:off x="2050920" y="4724280"/>
            <a:ext cx="1656000" cy="1650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"/>
          <p:cNvPicPr/>
          <p:nvPr/>
        </p:nvPicPr>
        <p:blipFill>
          <a:blip r:embed="rId3"/>
          <a:stretch/>
        </p:blipFill>
        <p:spPr>
          <a:xfrm>
            <a:off x="324000" y="3068640"/>
            <a:ext cx="1670040" cy="16700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14">
            <a:hlinkClick r:id="" action="ppaction://hlinkshowjump?jump=nextslide"/>
          </p:cNvPr>
          <p:cNvSpPr/>
          <p:nvPr/>
        </p:nvSpPr>
        <p:spPr>
          <a:xfrm>
            <a:off x="8101080" y="6093000"/>
            <a:ext cx="574560" cy="43164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746" h="21600">
                <a:moveTo>
                  <a:pt x="0" y="0"/>
                </a:moveTo>
                <a:lnTo>
                  <a:pt x="28746" y="0"/>
                </a:lnTo>
                <a:lnTo>
                  <a:pt x="28746" y="21600"/>
                </a:lnTo>
                <a:lnTo>
                  <a:pt x="0" y="21600"/>
                </a:lnTo>
                <a:close/>
              </a:path>
              <a:path fill="lightenLess" w="28746" h="21600">
                <a:moveTo>
                  <a:pt x="0" y="0"/>
                </a:moveTo>
                <a:lnTo>
                  <a:pt x="28746" y="0"/>
                </a:lnTo>
                <a:lnTo>
                  <a:pt x="27346" y="1400"/>
                </a:lnTo>
                <a:lnTo>
                  <a:pt x="1400" y="1400"/>
                </a:lnTo>
                <a:close/>
              </a:path>
              <a:path fill="darken" w="28746" h="21600">
                <a:moveTo>
                  <a:pt x="28746" y="0"/>
                </a:moveTo>
                <a:lnTo>
                  <a:pt x="28746" y="21600"/>
                </a:lnTo>
                <a:lnTo>
                  <a:pt x="27346" y="20200"/>
                </a:lnTo>
                <a:lnTo>
                  <a:pt x="27346" y="1400"/>
                </a:lnTo>
                <a:close/>
              </a:path>
              <a:path fill="darkenLess" w="28746" h="21600">
                <a:moveTo>
                  <a:pt x="28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6" y="20200"/>
                </a:lnTo>
                <a:close/>
              </a:path>
              <a:path fill="lighten" w="28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6" h="21600">
                <a:moveTo>
                  <a:pt x="7367" y="3794"/>
                </a:moveTo>
                <a:lnTo>
                  <a:pt x="21379" y="10800"/>
                </a:lnTo>
                <a:lnTo>
                  <a:pt x="7367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нформационно-указательные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зна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3313440" cy="2449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2"/>
          <a:stretch/>
        </p:blipFill>
        <p:spPr>
          <a:xfrm>
            <a:off x="5273640" y="1989000"/>
            <a:ext cx="3267000" cy="4535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"/>
          <p:cNvPicPr/>
          <p:nvPr/>
        </p:nvPicPr>
        <p:blipFill>
          <a:blip r:embed="rId3"/>
          <a:stretch/>
        </p:blipFill>
        <p:spPr>
          <a:xfrm>
            <a:off x="826920" y="4365720"/>
            <a:ext cx="280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2124000" y="692280"/>
            <a:ext cx="511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формационно-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казательны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WordArt 6"/>
          <p:cNvSpPr txBox="1"/>
          <p:nvPr/>
        </p:nvSpPr>
        <p:spPr>
          <a:xfrm>
            <a:off x="2700360" y="479736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WordArt 9"/>
          <p:cNvSpPr txBox="1"/>
          <p:nvPr/>
        </p:nvSpPr>
        <p:spPr>
          <a:xfrm>
            <a:off x="2050920" y="5373720"/>
            <a:ext cx="5473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ольшинство - синий прямоугольн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ли квадрат с рисунк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81" name="Picture 12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1598760" cy="1598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"/>
          <p:cNvPicPr/>
          <p:nvPr/>
        </p:nvPicPr>
        <p:blipFill>
          <a:blip r:embed="rId2"/>
          <a:stretch/>
        </p:blipFill>
        <p:spPr>
          <a:xfrm>
            <a:off x="4067280" y="2924280"/>
            <a:ext cx="1454040" cy="1454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"/>
          <p:cNvPicPr/>
          <p:nvPr/>
        </p:nvPicPr>
        <p:blipFill>
          <a:blip r:embed="rId3"/>
          <a:stretch/>
        </p:blipFill>
        <p:spPr>
          <a:xfrm>
            <a:off x="6948360" y="2852640"/>
            <a:ext cx="1379520" cy="194472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15">
            <a:hlinkClick r:id="" action="ppaction://hlinkshowjump?jump=nextslide"/>
          </p:cNvPr>
          <p:cNvSpPr/>
          <p:nvPr/>
        </p:nvSpPr>
        <p:spPr>
          <a:xfrm>
            <a:off x="8101080" y="6093000"/>
            <a:ext cx="574560" cy="43164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746" h="21600">
                <a:moveTo>
                  <a:pt x="0" y="0"/>
                </a:moveTo>
                <a:lnTo>
                  <a:pt x="28746" y="0"/>
                </a:lnTo>
                <a:lnTo>
                  <a:pt x="28746" y="21600"/>
                </a:lnTo>
                <a:lnTo>
                  <a:pt x="0" y="21600"/>
                </a:lnTo>
                <a:close/>
              </a:path>
              <a:path fill="lightenLess" w="28746" h="21600">
                <a:moveTo>
                  <a:pt x="0" y="0"/>
                </a:moveTo>
                <a:lnTo>
                  <a:pt x="28746" y="0"/>
                </a:lnTo>
                <a:lnTo>
                  <a:pt x="27346" y="1400"/>
                </a:lnTo>
                <a:lnTo>
                  <a:pt x="1400" y="1400"/>
                </a:lnTo>
                <a:close/>
              </a:path>
              <a:path fill="darken" w="28746" h="21600">
                <a:moveTo>
                  <a:pt x="28746" y="0"/>
                </a:moveTo>
                <a:lnTo>
                  <a:pt x="28746" y="21600"/>
                </a:lnTo>
                <a:lnTo>
                  <a:pt x="27346" y="20200"/>
                </a:lnTo>
                <a:lnTo>
                  <a:pt x="27346" y="1400"/>
                </a:lnTo>
                <a:close/>
              </a:path>
              <a:path fill="darkenLess" w="28746" h="21600">
                <a:moveTo>
                  <a:pt x="28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6" y="20200"/>
                </a:lnTo>
                <a:close/>
              </a:path>
              <a:path fill="lighten" w="28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6" h="21600">
                <a:moveTo>
                  <a:pt x="7367" y="3794"/>
                </a:moveTo>
                <a:lnTo>
                  <a:pt x="21379" y="10800"/>
                </a:lnTo>
                <a:lnTo>
                  <a:pt x="7367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19"/>
          <p:cNvSpPr txBox="1"/>
          <p:nvPr/>
        </p:nvSpPr>
        <p:spPr>
          <a:xfrm>
            <a:off x="1835280" y="1700280"/>
            <a:ext cx="5473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казывают место нахожд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шеходного переход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становки автобуса и т.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наки серви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250920" y="1909800"/>
            <a:ext cx="864216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2195640" y="692280"/>
            <a:ext cx="496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ки сервиса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9" name="WordArt 6"/>
          <p:cNvSpPr txBox="1"/>
          <p:nvPr/>
        </p:nvSpPr>
        <p:spPr>
          <a:xfrm>
            <a:off x="2700360" y="429264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WordArt 7"/>
          <p:cNvSpPr txBox="1"/>
          <p:nvPr/>
        </p:nvSpPr>
        <p:spPr>
          <a:xfrm>
            <a:off x="2843280" y="5084640"/>
            <a:ext cx="367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ний прямоугольник 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унк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1" name="WordArt 8"/>
          <p:cNvSpPr txBox="1"/>
          <p:nvPr/>
        </p:nvSpPr>
        <p:spPr>
          <a:xfrm>
            <a:off x="1692360" y="1413000"/>
            <a:ext cx="6119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казывают места отдых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ечения, питания, ремонта и т.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92" name="Picture 11" descr=""/>
          <p:cNvPicPr/>
          <p:nvPr/>
        </p:nvPicPr>
        <p:blipFill>
          <a:blip r:embed="rId1"/>
          <a:stretch/>
        </p:blipFill>
        <p:spPr>
          <a:xfrm>
            <a:off x="1608120" y="2276640"/>
            <a:ext cx="1249560" cy="1771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"/>
          <p:cNvPicPr/>
          <p:nvPr/>
        </p:nvPicPr>
        <p:blipFill>
          <a:blip r:embed="rId2"/>
          <a:stretch/>
        </p:blipFill>
        <p:spPr>
          <a:xfrm>
            <a:off x="3995640" y="2276640"/>
            <a:ext cx="1219320" cy="1726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"/>
          <p:cNvPicPr/>
          <p:nvPr/>
        </p:nvPicPr>
        <p:blipFill>
          <a:blip r:embed="rId3"/>
          <a:stretch/>
        </p:blipFill>
        <p:spPr>
          <a:xfrm>
            <a:off x="6300720" y="2276640"/>
            <a:ext cx="1200240" cy="169992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14">
            <a:hlinkClick r:id="" action="ppaction://hlinkshowjump?jump=nextslide"/>
          </p:cNvPr>
          <p:cNvSpPr/>
          <p:nvPr/>
        </p:nvSpPr>
        <p:spPr>
          <a:xfrm>
            <a:off x="8101080" y="6093000"/>
            <a:ext cx="574560" cy="43164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746" h="21600">
                <a:moveTo>
                  <a:pt x="0" y="0"/>
                </a:moveTo>
                <a:lnTo>
                  <a:pt x="28746" y="0"/>
                </a:lnTo>
                <a:lnTo>
                  <a:pt x="28746" y="21600"/>
                </a:lnTo>
                <a:lnTo>
                  <a:pt x="0" y="21600"/>
                </a:lnTo>
                <a:close/>
              </a:path>
              <a:path fill="lightenLess" w="28746" h="21600">
                <a:moveTo>
                  <a:pt x="0" y="0"/>
                </a:moveTo>
                <a:lnTo>
                  <a:pt x="28746" y="0"/>
                </a:lnTo>
                <a:lnTo>
                  <a:pt x="27346" y="1400"/>
                </a:lnTo>
                <a:lnTo>
                  <a:pt x="1400" y="1400"/>
                </a:lnTo>
                <a:close/>
              </a:path>
              <a:path fill="darken" w="28746" h="21600">
                <a:moveTo>
                  <a:pt x="28746" y="0"/>
                </a:moveTo>
                <a:lnTo>
                  <a:pt x="28746" y="21600"/>
                </a:lnTo>
                <a:lnTo>
                  <a:pt x="27346" y="20200"/>
                </a:lnTo>
                <a:lnTo>
                  <a:pt x="27346" y="1400"/>
                </a:lnTo>
                <a:close/>
              </a:path>
              <a:path fill="darkenLess" w="28746" h="21600">
                <a:moveTo>
                  <a:pt x="28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6" y="20200"/>
                </a:lnTo>
                <a:close/>
              </a:path>
              <a:path fill="lighten" w="28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6" h="21600">
                <a:moveTo>
                  <a:pt x="7367" y="3794"/>
                </a:moveTo>
                <a:lnTo>
                  <a:pt x="21379" y="10800"/>
                </a:lnTo>
                <a:lnTo>
                  <a:pt x="7367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cc"/>
                </a:solidFill>
                <a:latin typeface="Arial Black"/>
              </a:rPr>
              <a:t>«Светофор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Картинка 13 из 18625"/>
          <p:cNvPicPr/>
          <p:nvPr/>
        </p:nvPicPr>
        <p:blipFill>
          <a:blip r:embed="rId1"/>
          <a:stretch/>
        </p:blipFill>
        <p:spPr>
          <a:xfrm>
            <a:off x="5003640" y="1989000"/>
            <a:ext cx="3480120" cy="43531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95280" y="2349000"/>
            <a:ext cx="46800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ИГРА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1511280" cy="1355760"/>
          </a:xfrm>
          <a:prstGeom prst="rect">
            <a:avLst/>
          </a:prstGeom>
          <a:ln w="0">
            <a:noFill/>
          </a:ln>
        </p:spPr>
      </p:pic>
      <p:sp>
        <p:nvSpPr>
          <p:cNvPr id="200" name="WordArt 4"/>
          <p:cNvSpPr txBox="1"/>
          <p:nvPr/>
        </p:nvSpPr>
        <p:spPr>
          <a:xfrm>
            <a:off x="3348000" y="2852640"/>
            <a:ext cx="5295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предупреждающ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1" name="WordArt 5"/>
          <p:cNvSpPr txBox="1"/>
          <p:nvPr/>
        </p:nvSpPr>
        <p:spPr>
          <a:xfrm>
            <a:off x="3419640" y="3500280"/>
            <a:ext cx="403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запрещающ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WordArt 6"/>
          <p:cNvSpPr txBox="1"/>
          <p:nvPr/>
        </p:nvSpPr>
        <p:spPr>
          <a:xfrm>
            <a:off x="3419640" y="4149720"/>
            <a:ext cx="496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предписывающ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" name="WordArt 7"/>
          <p:cNvSpPr txBox="1"/>
          <p:nvPr/>
        </p:nvSpPr>
        <p:spPr>
          <a:xfrm>
            <a:off x="3419640" y="4724280"/>
            <a:ext cx="453708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информационно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казатель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" name="WordArt 8"/>
          <p:cNvSpPr txBox="1"/>
          <p:nvPr/>
        </p:nvSpPr>
        <p:spPr>
          <a:xfrm>
            <a:off x="3492360" y="5877000"/>
            <a:ext cx="309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знак серви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5" name="AutoShape 9">
            <a:hlinkClick r:id="" action="ppaction://hlinkshowjump?jump=nextslide"/>
          </p:cNvPr>
          <p:cNvSpPr/>
          <p:nvPr/>
        </p:nvSpPr>
        <p:spPr>
          <a:xfrm>
            <a:off x="8101080" y="6093000"/>
            <a:ext cx="574560" cy="43164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746" h="21600">
                <a:moveTo>
                  <a:pt x="0" y="0"/>
                </a:moveTo>
                <a:lnTo>
                  <a:pt x="28746" y="0"/>
                </a:lnTo>
                <a:lnTo>
                  <a:pt x="28746" y="21600"/>
                </a:lnTo>
                <a:lnTo>
                  <a:pt x="0" y="21600"/>
                </a:lnTo>
                <a:close/>
              </a:path>
              <a:path fill="lightenLess" w="28746" h="21600">
                <a:moveTo>
                  <a:pt x="0" y="0"/>
                </a:moveTo>
                <a:lnTo>
                  <a:pt x="28746" y="0"/>
                </a:lnTo>
                <a:lnTo>
                  <a:pt x="27346" y="1400"/>
                </a:lnTo>
                <a:lnTo>
                  <a:pt x="1400" y="1400"/>
                </a:lnTo>
                <a:close/>
              </a:path>
              <a:path fill="darken" w="28746" h="21600">
                <a:moveTo>
                  <a:pt x="28746" y="0"/>
                </a:moveTo>
                <a:lnTo>
                  <a:pt x="28746" y="21600"/>
                </a:lnTo>
                <a:lnTo>
                  <a:pt x="27346" y="20200"/>
                </a:lnTo>
                <a:lnTo>
                  <a:pt x="27346" y="1400"/>
                </a:lnTo>
                <a:close/>
              </a:path>
              <a:path fill="darkenLess" w="28746" h="21600">
                <a:moveTo>
                  <a:pt x="28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6" y="20200"/>
                </a:lnTo>
                <a:close/>
              </a:path>
              <a:path fill="lighten" w="28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6" h="21600">
                <a:moveTo>
                  <a:pt x="7367" y="3794"/>
                </a:moveTo>
                <a:lnTo>
                  <a:pt x="21379" y="10800"/>
                </a:lnTo>
                <a:lnTo>
                  <a:pt x="7367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10"/>
          <p:cNvSpPr txBox="1"/>
          <p:nvPr/>
        </p:nvSpPr>
        <p:spPr>
          <a:xfrm>
            <a:off x="468360" y="333360"/>
            <a:ext cx="8280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, к какой группе относится знак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7037E-007 L -5.27778E-006 -0.17848 E">
                                      <p:cBhvr>
                                        <p:cTn id="149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4"/>
          <p:cNvSpPr txBox="1"/>
          <p:nvPr/>
        </p:nvSpPr>
        <p:spPr>
          <a:xfrm>
            <a:off x="3348000" y="2852640"/>
            <a:ext cx="5295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предупреждающ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WordArt 5"/>
          <p:cNvSpPr txBox="1"/>
          <p:nvPr/>
        </p:nvSpPr>
        <p:spPr>
          <a:xfrm>
            <a:off x="3419640" y="3500280"/>
            <a:ext cx="403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запрещающ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9" name="WordArt 6"/>
          <p:cNvSpPr txBox="1"/>
          <p:nvPr/>
        </p:nvSpPr>
        <p:spPr>
          <a:xfrm>
            <a:off x="3419640" y="4149720"/>
            <a:ext cx="496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предписывающ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0" name="WordArt 7"/>
          <p:cNvSpPr txBox="1"/>
          <p:nvPr/>
        </p:nvSpPr>
        <p:spPr>
          <a:xfrm>
            <a:off x="3419640" y="4724280"/>
            <a:ext cx="453708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информационно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казатель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1" name="WordArt 8"/>
          <p:cNvSpPr txBox="1"/>
          <p:nvPr/>
        </p:nvSpPr>
        <p:spPr>
          <a:xfrm>
            <a:off x="3492360" y="5877000"/>
            <a:ext cx="309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знак серви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AutoShape 9">
            <a:hlinkClick r:id="" action="ppaction://hlinkshowjump?jump=nextslide"/>
          </p:cNvPr>
          <p:cNvSpPr/>
          <p:nvPr/>
        </p:nvSpPr>
        <p:spPr>
          <a:xfrm>
            <a:off x="8101080" y="6093000"/>
            <a:ext cx="574560" cy="43164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746" h="21600">
                <a:moveTo>
                  <a:pt x="0" y="0"/>
                </a:moveTo>
                <a:lnTo>
                  <a:pt x="28746" y="0"/>
                </a:lnTo>
                <a:lnTo>
                  <a:pt x="28746" y="21600"/>
                </a:lnTo>
                <a:lnTo>
                  <a:pt x="0" y="21600"/>
                </a:lnTo>
                <a:close/>
              </a:path>
              <a:path fill="lightenLess" w="28746" h="21600">
                <a:moveTo>
                  <a:pt x="0" y="0"/>
                </a:moveTo>
                <a:lnTo>
                  <a:pt x="28746" y="0"/>
                </a:lnTo>
                <a:lnTo>
                  <a:pt x="27346" y="1400"/>
                </a:lnTo>
                <a:lnTo>
                  <a:pt x="1400" y="1400"/>
                </a:lnTo>
                <a:close/>
              </a:path>
              <a:path fill="darken" w="28746" h="21600">
                <a:moveTo>
                  <a:pt x="28746" y="0"/>
                </a:moveTo>
                <a:lnTo>
                  <a:pt x="28746" y="21600"/>
                </a:lnTo>
                <a:lnTo>
                  <a:pt x="27346" y="20200"/>
                </a:lnTo>
                <a:lnTo>
                  <a:pt x="27346" y="1400"/>
                </a:lnTo>
                <a:close/>
              </a:path>
              <a:path fill="darkenLess" w="28746" h="21600">
                <a:moveTo>
                  <a:pt x="28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6" y="20200"/>
                </a:lnTo>
                <a:close/>
              </a:path>
              <a:path fill="lighten" w="28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6" h="21600">
                <a:moveTo>
                  <a:pt x="7367" y="3794"/>
                </a:moveTo>
                <a:lnTo>
                  <a:pt x="21379" y="10800"/>
                </a:lnTo>
                <a:lnTo>
                  <a:pt x="7367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0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1549440" cy="2184480"/>
          </a:xfrm>
          <a:prstGeom prst="rect">
            <a:avLst/>
          </a:prstGeom>
          <a:ln w="0">
            <a:noFill/>
          </a:ln>
        </p:spPr>
      </p:pic>
      <p:sp>
        <p:nvSpPr>
          <p:cNvPr id="214" name="WordArt 11"/>
          <p:cNvSpPr txBox="1"/>
          <p:nvPr/>
        </p:nvSpPr>
        <p:spPr>
          <a:xfrm>
            <a:off x="468360" y="333360"/>
            <a:ext cx="8280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, к какой группе относится знак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 L -0.00399 -0.4831 E">
                                      <p:cBhvr>
                                        <p:cTn id="197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Тема заня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227628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О чём говорят знак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4"/>
          <p:cNvSpPr txBox="1"/>
          <p:nvPr/>
        </p:nvSpPr>
        <p:spPr>
          <a:xfrm>
            <a:off x="3348000" y="2852640"/>
            <a:ext cx="5295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предупреждающ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6" name="WordArt 5"/>
          <p:cNvSpPr txBox="1"/>
          <p:nvPr/>
        </p:nvSpPr>
        <p:spPr>
          <a:xfrm>
            <a:off x="3419640" y="3500280"/>
            <a:ext cx="403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запрещающ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7" name="WordArt 6"/>
          <p:cNvSpPr txBox="1"/>
          <p:nvPr/>
        </p:nvSpPr>
        <p:spPr>
          <a:xfrm>
            <a:off x="3419640" y="4149720"/>
            <a:ext cx="496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предписывающ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8" name="WordArt 7"/>
          <p:cNvSpPr txBox="1"/>
          <p:nvPr/>
        </p:nvSpPr>
        <p:spPr>
          <a:xfrm>
            <a:off x="3419640" y="4724280"/>
            <a:ext cx="453708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информационно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казатель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9" name="WordArt 8"/>
          <p:cNvSpPr txBox="1"/>
          <p:nvPr/>
        </p:nvSpPr>
        <p:spPr>
          <a:xfrm>
            <a:off x="3492360" y="5877000"/>
            <a:ext cx="309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знак серви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AutoShape 9">
            <a:hlinkClick r:id="" action="ppaction://hlinkshowjump?jump=nextslide"/>
          </p:cNvPr>
          <p:cNvSpPr/>
          <p:nvPr/>
        </p:nvSpPr>
        <p:spPr>
          <a:xfrm>
            <a:off x="8101080" y="6093000"/>
            <a:ext cx="574560" cy="43164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746" h="21600">
                <a:moveTo>
                  <a:pt x="0" y="0"/>
                </a:moveTo>
                <a:lnTo>
                  <a:pt x="28746" y="0"/>
                </a:lnTo>
                <a:lnTo>
                  <a:pt x="28746" y="21600"/>
                </a:lnTo>
                <a:lnTo>
                  <a:pt x="0" y="21600"/>
                </a:lnTo>
                <a:close/>
              </a:path>
              <a:path fill="lightenLess" w="28746" h="21600">
                <a:moveTo>
                  <a:pt x="0" y="0"/>
                </a:moveTo>
                <a:lnTo>
                  <a:pt x="28746" y="0"/>
                </a:lnTo>
                <a:lnTo>
                  <a:pt x="27346" y="1400"/>
                </a:lnTo>
                <a:lnTo>
                  <a:pt x="1400" y="1400"/>
                </a:lnTo>
                <a:close/>
              </a:path>
              <a:path fill="darken" w="28746" h="21600">
                <a:moveTo>
                  <a:pt x="28746" y="0"/>
                </a:moveTo>
                <a:lnTo>
                  <a:pt x="28746" y="21600"/>
                </a:lnTo>
                <a:lnTo>
                  <a:pt x="27346" y="20200"/>
                </a:lnTo>
                <a:lnTo>
                  <a:pt x="27346" y="1400"/>
                </a:lnTo>
                <a:close/>
              </a:path>
              <a:path fill="darkenLess" w="28746" h="21600">
                <a:moveTo>
                  <a:pt x="28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6" y="20200"/>
                </a:lnTo>
                <a:close/>
              </a:path>
              <a:path fill="lighten" w="28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6" h="21600">
                <a:moveTo>
                  <a:pt x="7367" y="3794"/>
                </a:moveTo>
                <a:lnTo>
                  <a:pt x="21379" y="10800"/>
                </a:lnTo>
                <a:lnTo>
                  <a:pt x="7367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0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1803240" cy="1770120"/>
          </a:xfrm>
          <a:prstGeom prst="rect">
            <a:avLst/>
          </a:prstGeom>
          <a:ln w="0">
            <a:noFill/>
          </a:ln>
        </p:spPr>
      </p:pic>
      <p:sp>
        <p:nvSpPr>
          <p:cNvPr id="222" name="WordArt 11"/>
          <p:cNvSpPr txBox="1"/>
          <p:nvPr/>
        </p:nvSpPr>
        <p:spPr>
          <a:xfrm>
            <a:off x="468360" y="333360"/>
            <a:ext cx="8280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, к какой группе относится знак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8.51852E-006 L 3.88889E-006 -0.32546 E">
                                      <p:cBhvr>
                                        <p:cTn id="215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4"/>
          <p:cNvSpPr txBox="1"/>
          <p:nvPr/>
        </p:nvSpPr>
        <p:spPr>
          <a:xfrm>
            <a:off x="3348000" y="2852640"/>
            <a:ext cx="5295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предупреждающ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4" name="WordArt 5"/>
          <p:cNvSpPr txBox="1"/>
          <p:nvPr/>
        </p:nvSpPr>
        <p:spPr>
          <a:xfrm>
            <a:off x="3419640" y="3500280"/>
            <a:ext cx="403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запрещающ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5" name="WordArt 6"/>
          <p:cNvSpPr txBox="1"/>
          <p:nvPr/>
        </p:nvSpPr>
        <p:spPr>
          <a:xfrm>
            <a:off x="3419640" y="4149720"/>
            <a:ext cx="496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предписывающ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6" name="WordArt 7"/>
          <p:cNvSpPr txBox="1"/>
          <p:nvPr/>
        </p:nvSpPr>
        <p:spPr>
          <a:xfrm>
            <a:off x="3419640" y="4724280"/>
            <a:ext cx="453708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информационно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казатель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7" name="WordArt 8"/>
          <p:cNvSpPr txBox="1"/>
          <p:nvPr/>
        </p:nvSpPr>
        <p:spPr>
          <a:xfrm>
            <a:off x="3492360" y="5877000"/>
            <a:ext cx="309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знак серви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8" name="AutoShape 9">
            <a:hlinkClick r:id="" action="ppaction://hlinkshowjump?jump=nextslide"/>
          </p:cNvPr>
          <p:cNvSpPr/>
          <p:nvPr/>
        </p:nvSpPr>
        <p:spPr>
          <a:xfrm>
            <a:off x="8101080" y="6093000"/>
            <a:ext cx="574560" cy="43164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746" h="21600">
                <a:moveTo>
                  <a:pt x="0" y="0"/>
                </a:moveTo>
                <a:lnTo>
                  <a:pt x="28746" y="0"/>
                </a:lnTo>
                <a:lnTo>
                  <a:pt x="28746" y="21600"/>
                </a:lnTo>
                <a:lnTo>
                  <a:pt x="0" y="21600"/>
                </a:lnTo>
                <a:close/>
              </a:path>
              <a:path fill="lightenLess" w="28746" h="21600">
                <a:moveTo>
                  <a:pt x="0" y="0"/>
                </a:moveTo>
                <a:lnTo>
                  <a:pt x="28746" y="0"/>
                </a:lnTo>
                <a:lnTo>
                  <a:pt x="27346" y="1400"/>
                </a:lnTo>
                <a:lnTo>
                  <a:pt x="1400" y="1400"/>
                </a:lnTo>
                <a:close/>
              </a:path>
              <a:path fill="darken" w="28746" h="21600">
                <a:moveTo>
                  <a:pt x="28746" y="0"/>
                </a:moveTo>
                <a:lnTo>
                  <a:pt x="28746" y="21600"/>
                </a:lnTo>
                <a:lnTo>
                  <a:pt x="27346" y="20200"/>
                </a:lnTo>
                <a:lnTo>
                  <a:pt x="27346" y="1400"/>
                </a:lnTo>
                <a:close/>
              </a:path>
              <a:path fill="darkenLess" w="28746" h="21600">
                <a:moveTo>
                  <a:pt x="28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6" y="20200"/>
                </a:lnTo>
                <a:close/>
              </a:path>
              <a:path fill="lighten" w="28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6" h="21600">
                <a:moveTo>
                  <a:pt x="7367" y="3794"/>
                </a:moveTo>
                <a:lnTo>
                  <a:pt x="21379" y="10800"/>
                </a:lnTo>
                <a:lnTo>
                  <a:pt x="7367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1474920" cy="1967040"/>
          </a:xfrm>
          <a:prstGeom prst="rect">
            <a:avLst/>
          </a:prstGeom>
          <a:ln w="0">
            <a:noFill/>
          </a:ln>
        </p:spPr>
      </p:pic>
      <p:sp>
        <p:nvSpPr>
          <p:cNvPr id="230" name="WordArt 11"/>
          <p:cNvSpPr txBox="1"/>
          <p:nvPr/>
        </p:nvSpPr>
        <p:spPr>
          <a:xfrm>
            <a:off x="468360" y="333360"/>
            <a:ext cx="8280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, к какой группе относится знак</a:t>
            </a:r>
            <a:endParaRPr b="1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4.07407E-006 L -0.00782 -0.61945 E">
                                      <p:cBhvr>
                                        <p:cTn id="263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2"/>
          <p:cNvSpPr txBox="1"/>
          <p:nvPr/>
        </p:nvSpPr>
        <p:spPr>
          <a:xfrm>
            <a:off x="468360" y="333360"/>
            <a:ext cx="8280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, к какой группе относится знак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WordArt 4"/>
          <p:cNvSpPr txBox="1"/>
          <p:nvPr/>
        </p:nvSpPr>
        <p:spPr>
          <a:xfrm>
            <a:off x="3348000" y="2852640"/>
            <a:ext cx="5295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предупреждающ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3" name="WordArt 5"/>
          <p:cNvSpPr txBox="1"/>
          <p:nvPr/>
        </p:nvSpPr>
        <p:spPr>
          <a:xfrm>
            <a:off x="3419640" y="3500280"/>
            <a:ext cx="403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запрещающ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4" name="WordArt 6"/>
          <p:cNvSpPr txBox="1"/>
          <p:nvPr/>
        </p:nvSpPr>
        <p:spPr>
          <a:xfrm>
            <a:off x="3419640" y="4149720"/>
            <a:ext cx="496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предписывающ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5" name="WordArt 7"/>
          <p:cNvSpPr txBox="1"/>
          <p:nvPr/>
        </p:nvSpPr>
        <p:spPr>
          <a:xfrm>
            <a:off x="3419640" y="4724280"/>
            <a:ext cx="453708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информационно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казатель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6" name="WordArt 8"/>
          <p:cNvSpPr txBox="1"/>
          <p:nvPr/>
        </p:nvSpPr>
        <p:spPr>
          <a:xfrm>
            <a:off x="3492360" y="5877000"/>
            <a:ext cx="309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знак серви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7" name="AutoShape 9">
            <a:hlinkClick r:id="" action="ppaction://hlinkshowjump?jump=nextslide"/>
          </p:cNvPr>
          <p:cNvSpPr/>
          <p:nvPr/>
        </p:nvSpPr>
        <p:spPr>
          <a:xfrm>
            <a:off x="8101080" y="6093000"/>
            <a:ext cx="574560" cy="43164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746" h="21600">
                <a:moveTo>
                  <a:pt x="0" y="0"/>
                </a:moveTo>
                <a:lnTo>
                  <a:pt x="28746" y="0"/>
                </a:lnTo>
                <a:lnTo>
                  <a:pt x="28746" y="21600"/>
                </a:lnTo>
                <a:lnTo>
                  <a:pt x="0" y="21600"/>
                </a:lnTo>
                <a:close/>
              </a:path>
              <a:path fill="lightenLess" w="28746" h="21600">
                <a:moveTo>
                  <a:pt x="0" y="0"/>
                </a:moveTo>
                <a:lnTo>
                  <a:pt x="28746" y="0"/>
                </a:lnTo>
                <a:lnTo>
                  <a:pt x="27346" y="1400"/>
                </a:lnTo>
                <a:lnTo>
                  <a:pt x="1400" y="1400"/>
                </a:lnTo>
                <a:close/>
              </a:path>
              <a:path fill="darken" w="28746" h="21600">
                <a:moveTo>
                  <a:pt x="28746" y="0"/>
                </a:moveTo>
                <a:lnTo>
                  <a:pt x="28746" y="21600"/>
                </a:lnTo>
                <a:lnTo>
                  <a:pt x="27346" y="20200"/>
                </a:lnTo>
                <a:lnTo>
                  <a:pt x="27346" y="1400"/>
                </a:lnTo>
                <a:close/>
              </a:path>
              <a:path fill="darkenLess" w="28746" h="21600">
                <a:moveTo>
                  <a:pt x="28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6" y="20200"/>
                </a:lnTo>
                <a:close/>
              </a:path>
              <a:path fill="lighten" w="28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6" h="21600">
                <a:moveTo>
                  <a:pt x="7367" y="3794"/>
                </a:moveTo>
                <a:lnTo>
                  <a:pt x="21379" y="10800"/>
                </a:lnTo>
                <a:lnTo>
                  <a:pt x="7367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1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1741320" cy="174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037E-006 L 4.16667E-006 -0.39907 E">
                                      <p:cBhvr>
                                        <p:cTn id="281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2"/>
          <p:cNvSpPr txBox="1"/>
          <p:nvPr/>
        </p:nvSpPr>
        <p:spPr>
          <a:xfrm>
            <a:off x="324000" y="333360"/>
            <a:ext cx="842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которые знаки разных стран имеют небольшие отличия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0" name="WordArt 3"/>
          <p:cNvSpPr txBox="1"/>
          <p:nvPr/>
        </p:nvSpPr>
        <p:spPr>
          <a:xfrm>
            <a:off x="611280" y="981000"/>
            <a:ext cx="705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верь себя: какой зна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жно увидеть на дорогах Росси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3635280" y="2205000"/>
            <a:ext cx="1565280" cy="1584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2"/>
          <a:stretch/>
        </p:blipFill>
        <p:spPr>
          <a:xfrm>
            <a:off x="6443640" y="2060640"/>
            <a:ext cx="1673280" cy="1670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3"/>
          <a:stretch/>
        </p:blipFill>
        <p:spPr>
          <a:xfrm>
            <a:off x="684360" y="2133720"/>
            <a:ext cx="1657080" cy="1657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4"/>
          <a:stretch/>
        </p:blipFill>
        <p:spPr>
          <a:xfrm>
            <a:off x="6588000" y="4365720"/>
            <a:ext cx="1648080" cy="1647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"/>
          <p:cNvPicPr/>
          <p:nvPr/>
        </p:nvPicPr>
        <p:blipFill>
          <a:blip r:embed="rId5"/>
          <a:stretch/>
        </p:blipFill>
        <p:spPr>
          <a:xfrm>
            <a:off x="684360" y="436572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"/>
          <p:cNvPicPr/>
          <p:nvPr/>
        </p:nvPicPr>
        <p:blipFill>
          <a:blip r:embed="rId6"/>
          <a:stretch/>
        </p:blipFill>
        <p:spPr>
          <a:xfrm>
            <a:off x="3708360" y="4365720"/>
            <a:ext cx="1689120" cy="168912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10"/>
          <p:cNvGrpSpPr/>
          <p:nvPr/>
        </p:nvGrpSpPr>
        <p:grpSpPr>
          <a:xfrm>
            <a:off x="323640" y="3716280"/>
            <a:ext cx="8344080" cy="2815200"/>
            <a:chOff x="323640" y="3716280"/>
            <a:chExt cx="8344080" cy="2815200"/>
          </a:xfrm>
        </p:grpSpPr>
        <p:sp>
          <p:nvSpPr>
            <p:cNvPr id="248" name="Text Box 11"/>
            <p:cNvSpPr/>
            <p:nvPr/>
          </p:nvSpPr>
          <p:spPr>
            <a:xfrm>
              <a:off x="3779640" y="3740040"/>
              <a:ext cx="163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Росс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2"/>
            <p:cNvSpPr/>
            <p:nvPr/>
          </p:nvSpPr>
          <p:spPr>
            <a:xfrm>
              <a:off x="323640" y="3716280"/>
              <a:ext cx="214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Герма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3"/>
            <p:cNvSpPr/>
            <p:nvPr/>
          </p:nvSpPr>
          <p:spPr>
            <a:xfrm>
              <a:off x="6514560" y="3716280"/>
              <a:ext cx="180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Швец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4"/>
            <p:cNvSpPr/>
            <p:nvPr/>
          </p:nvSpPr>
          <p:spPr>
            <a:xfrm>
              <a:off x="395640" y="5950080"/>
              <a:ext cx="190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Испа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15"/>
            <p:cNvSpPr/>
            <p:nvPr/>
          </p:nvSpPr>
          <p:spPr>
            <a:xfrm>
              <a:off x="3276720" y="5950080"/>
              <a:ext cx="279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Нидерланд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6"/>
            <p:cNvSpPr/>
            <p:nvPr/>
          </p:nvSpPr>
          <p:spPr>
            <a:xfrm>
              <a:off x="6156720" y="5950080"/>
              <a:ext cx="251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Финлянд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AutoShape 17">
            <a:hlinkClick r:id="" action="ppaction://hlinkshowjump?jump=nextslide"/>
          </p:cNvPr>
          <p:cNvSpPr/>
          <p:nvPr/>
        </p:nvSpPr>
        <p:spPr>
          <a:xfrm>
            <a:off x="8569440" y="6426360"/>
            <a:ext cx="574560" cy="43164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746" h="21600">
                <a:moveTo>
                  <a:pt x="0" y="0"/>
                </a:moveTo>
                <a:lnTo>
                  <a:pt x="28746" y="0"/>
                </a:lnTo>
                <a:lnTo>
                  <a:pt x="28746" y="21600"/>
                </a:lnTo>
                <a:lnTo>
                  <a:pt x="0" y="21600"/>
                </a:lnTo>
                <a:close/>
              </a:path>
              <a:path fill="lightenLess" w="28746" h="21600">
                <a:moveTo>
                  <a:pt x="0" y="0"/>
                </a:moveTo>
                <a:lnTo>
                  <a:pt x="28746" y="0"/>
                </a:lnTo>
                <a:lnTo>
                  <a:pt x="27346" y="1400"/>
                </a:lnTo>
                <a:lnTo>
                  <a:pt x="1400" y="1400"/>
                </a:lnTo>
                <a:close/>
              </a:path>
              <a:path fill="darken" w="28746" h="21600">
                <a:moveTo>
                  <a:pt x="28746" y="0"/>
                </a:moveTo>
                <a:lnTo>
                  <a:pt x="28746" y="21600"/>
                </a:lnTo>
                <a:lnTo>
                  <a:pt x="27346" y="20200"/>
                </a:lnTo>
                <a:lnTo>
                  <a:pt x="27346" y="1400"/>
                </a:lnTo>
                <a:close/>
              </a:path>
              <a:path fill="darkenLess" w="28746" h="21600">
                <a:moveTo>
                  <a:pt x="28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6" y="20200"/>
                </a:lnTo>
                <a:close/>
              </a:path>
              <a:path fill="lighten" w="28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6" h="21600">
                <a:moveTo>
                  <a:pt x="7367" y="3794"/>
                </a:moveTo>
                <a:lnTo>
                  <a:pt x="21379" y="10800"/>
                </a:lnTo>
                <a:lnTo>
                  <a:pt x="7367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8"/>
          <p:cNvGrpSpPr/>
          <p:nvPr/>
        </p:nvGrpSpPr>
        <p:grpSpPr>
          <a:xfrm>
            <a:off x="7885080" y="981000"/>
            <a:ext cx="755640" cy="720720"/>
            <a:chOff x="7885080" y="981000"/>
            <a:chExt cx="755640" cy="720720"/>
          </a:xfrm>
        </p:grpSpPr>
        <p:sp>
          <p:nvSpPr>
            <p:cNvPr id="256" name="WordArt 19"/>
            <p:cNvSpPr txBox="1"/>
            <p:nvPr/>
          </p:nvSpPr>
          <p:spPr>
            <a:xfrm>
              <a:off x="8172360" y="1054080"/>
              <a:ext cx="2286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?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57" name="Rectangle 20"/>
            <p:cNvSpPr/>
            <p:nvPr/>
          </p:nvSpPr>
          <p:spPr>
            <a:xfrm>
              <a:off x="7885080" y="981000"/>
              <a:ext cx="755640" cy="72072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WordArt 2"/>
          <p:cNvSpPr txBox="1"/>
          <p:nvPr/>
        </p:nvSpPr>
        <p:spPr>
          <a:xfrm>
            <a:off x="900000" y="1484280"/>
            <a:ext cx="7631280" cy="4392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. предупреждающие знаки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. запрещающие знаки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. предписывающие знаки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. информационно-указатель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наки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. знаки сервиса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. знаки приоритета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. знаки дополнительной информ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9" name="WordArt 3"/>
          <p:cNvSpPr txBox="1"/>
          <p:nvPr/>
        </p:nvSpPr>
        <p:spPr>
          <a:xfrm>
            <a:off x="468360" y="404640"/>
            <a:ext cx="8391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е дорожные знаки делятся на 7 групп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0" name="AutoShape 4">
            <a:hlinkClick r:id="" action="ppaction://hlinkshowjump?jump=nextslide"/>
          </p:cNvPr>
          <p:cNvSpPr/>
          <p:nvPr/>
        </p:nvSpPr>
        <p:spPr>
          <a:xfrm>
            <a:off x="8101080" y="6093000"/>
            <a:ext cx="574560" cy="43164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746" h="21600">
                <a:moveTo>
                  <a:pt x="0" y="0"/>
                </a:moveTo>
                <a:lnTo>
                  <a:pt x="28746" y="0"/>
                </a:lnTo>
                <a:lnTo>
                  <a:pt x="28746" y="21600"/>
                </a:lnTo>
                <a:lnTo>
                  <a:pt x="0" y="21600"/>
                </a:lnTo>
                <a:close/>
              </a:path>
              <a:path fill="lightenLess" w="28746" h="21600">
                <a:moveTo>
                  <a:pt x="0" y="0"/>
                </a:moveTo>
                <a:lnTo>
                  <a:pt x="28746" y="0"/>
                </a:lnTo>
                <a:lnTo>
                  <a:pt x="27346" y="1400"/>
                </a:lnTo>
                <a:lnTo>
                  <a:pt x="1400" y="1400"/>
                </a:lnTo>
                <a:close/>
              </a:path>
              <a:path fill="darken" w="28746" h="21600">
                <a:moveTo>
                  <a:pt x="28746" y="0"/>
                </a:moveTo>
                <a:lnTo>
                  <a:pt x="28746" y="21600"/>
                </a:lnTo>
                <a:lnTo>
                  <a:pt x="27346" y="20200"/>
                </a:lnTo>
                <a:lnTo>
                  <a:pt x="27346" y="1400"/>
                </a:lnTo>
                <a:close/>
              </a:path>
              <a:path fill="darkenLess" w="28746" h="21600">
                <a:moveTo>
                  <a:pt x="28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6" y="20200"/>
                </a:lnTo>
                <a:close/>
              </a:path>
              <a:path fill="lighten" w="28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6" h="21600">
                <a:moveTo>
                  <a:pt x="7367" y="3794"/>
                </a:moveTo>
                <a:lnTo>
                  <a:pt x="21379" y="10800"/>
                </a:lnTo>
                <a:lnTo>
                  <a:pt x="7367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2d050"/>
                </a:solidFill>
                <a:uFillTx/>
                <a:latin typeface="Arial"/>
              </a:rPr>
              <a:t>Главная задача знак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воевременно информировать или предупреждать водителей и пешеходов об опасности и условиях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4358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он дорог мудр и строг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ты не забывай его, друж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ло, чтоб его все знал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до, чтобы выполнял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гда можно поручиться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ды дорожной не случитс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4"/>
          <p:cNvSpPr txBox="1"/>
          <p:nvPr/>
        </p:nvSpPr>
        <p:spPr>
          <a:xfrm>
            <a:off x="971640" y="2421000"/>
            <a:ext cx="7129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всем!</a:t>
            </a:r>
            <a:endParaRPr b="1" i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3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6"/>
          <p:cNvSpPr txBox="1"/>
          <p:nvPr/>
        </p:nvSpPr>
        <p:spPr>
          <a:xfrm>
            <a:off x="1116000" y="4076640"/>
            <a:ext cx="711828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85 го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мецкий инженер Карл Бенц получи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атент № 37435  на своё творение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рвый в мире автомоби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 бензиновым моторо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g_ten" descr="http://media.meta.ua/files/pic/0/6/26/TkyUUhAEKN.jpg?id=400077"/>
          <p:cNvPicPr/>
          <p:nvPr/>
        </p:nvPicPr>
        <p:blipFill>
          <a:blip r:embed="rId1"/>
          <a:stretch/>
        </p:blipFill>
        <p:spPr>
          <a:xfrm>
            <a:off x="2195640" y="549360"/>
            <a:ext cx="4762440" cy="31813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9"/>
          <p:cNvSpPr/>
          <p:nvPr/>
        </p:nvSpPr>
        <p:spPr>
          <a:xfrm>
            <a:off x="0" y="501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0">
            <a:hlinkClick r:id="" action="ppaction://hlinkshowjump?jump=nextslide"/>
          </p:cNvPr>
          <p:cNvSpPr/>
          <p:nvPr/>
        </p:nvSpPr>
        <p:spPr>
          <a:xfrm>
            <a:off x="8101080" y="6093000"/>
            <a:ext cx="574560" cy="43164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746" h="21600">
                <a:moveTo>
                  <a:pt x="0" y="0"/>
                </a:moveTo>
                <a:lnTo>
                  <a:pt x="28746" y="0"/>
                </a:lnTo>
                <a:lnTo>
                  <a:pt x="28746" y="21600"/>
                </a:lnTo>
                <a:lnTo>
                  <a:pt x="0" y="21600"/>
                </a:lnTo>
                <a:close/>
              </a:path>
              <a:path fill="lightenLess" w="28746" h="21600">
                <a:moveTo>
                  <a:pt x="0" y="0"/>
                </a:moveTo>
                <a:lnTo>
                  <a:pt x="28746" y="0"/>
                </a:lnTo>
                <a:lnTo>
                  <a:pt x="27346" y="1400"/>
                </a:lnTo>
                <a:lnTo>
                  <a:pt x="1400" y="1400"/>
                </a:lnTo>
                <a:close/>
              </a:path>
              <a:path fill="darken" w="28746" h="21600">
                <a:moveTo>
                  <a:pt x="28746" y="0"/>
                </a:moveTo>
                <a:lnTo>
                  <a:pt x="28746" y="21600"/>
                </a:lnTo>
                <a:lnTo>
                  <a:pt x="27346" y="20200"/>
                </a:lnTo>
                <a:lnTo>
                  <a:pt x="27346" y="1400"/>
                </a:lnTo>
                <a:close/>
              </a:path>
              <a:path fill="darkenLess" w="28746" h="21600">
                <a:moveTo>
                  <a:pt x="28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6" y="20200"/>
                </a:lnTo>
                <a:close/>
              </a:path>
              <a:path fill="lighten" w="28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6" h="21600">
                <a:moveTo>
                  <a:pt x="7367" y="3794"/>
                </a:moveTo>
                <a:lnTo>
                  <a:pt x="21379" y="10800"/>
                </a:lnTo>
                <a:lnTo>
                  <a:pt x="7367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1258920" y="981000"/>
            <a:ext cx="64818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рвая автомобильная ава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 смертельным исходом произош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Англии 17 августа 1896 год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ашина ехала со скоростью 6 км/час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о водитель не видел доро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з-за двух других повозо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1476360" y="4076640"/>
            <a:ext cx="6191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иссис Бриджит Дрискал, впавш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панику, стояла неподвиж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не уступила дорогу машине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7" name="AutoShape 7">
            <a:hlinkClick r:id="" action="ppaction://hlinkshowjump?jump=nextslide"/>
          </p:cNvPr>
          <p:cNvSpPr/>
          <p:nvPr/>
        </p:nvSpPr>
        <p:spPr>
          <a:xfrm>
            <a:off x="8101080" y="6093000"/>
            <a:ext cx="574560" cy="43164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746" h="21600">
                <a:moveTo>
                  <a:pt x="0" y="0"/>
                </a:moveTo>
                <a:lnTo>
                  <a:pt x="28746" y="0"/>
                </a:lnTo>
                <a:lnTo>
                  <a:pt x="28746" y="21600"/>
                </a:lnTo>
                <a:lnTo>
                  <a:pt x="0" y="21600"/>
                </a:lnTo>
                <a:close/>
              </a:path>
              <a:path fill="lightenLess" w="28746" h="21600">
                <a:moveTo>
                  <a:pt x="0" y="0"/>
                </a:moveTo>
                <a:lnTo>
                  <a:pt x="28746" y="0"/>
                </a:lnTo>
                <a:lnTo>
                  <a:pt x="27346" y="1400"/>
                </a:lnTo>
                <a:lnTo>
                  <a:pt x="1400" y="1400"/>
                </a:lnTo>
                <a:close/>
              </a:path>
              <a:path fill="darken" w="28746" h="21600">
                <a:moveTo>
                  <a:pt x="28746" y="0"/>
                </a:moveTo>
                <a:lnTo>
                  <a:pt x="28746" y="21600"/>
                </a:lnTo>
                <a:lnTo>
                  <a:pt x="27346" y="20200"/>
                </a:lnTo>
                <a:lnTo>
                  <a:pt x="27346" y="1400"/>
                </a:lnTo>
                <a:close/>
              </a:path>
              <a:path fill="darkenLess" w="28746" h="21600">
                <a:moveTo>
                  <a:pt x="28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6" y="20200"/>
                </a:lnTo>
                <a:close/>
              </a:path>
              <a:path fill="lighten" w="28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6" h="21600">
                <a:moveTo>
                  <a:pt x="7367" y="3794"/>
                </a:moveTo>
                <a:lnTo>
                  <a:pt x="21379" y="10800"/>
                </a:lnTo>
                <a:lnTo>
                  <a:pt x="7367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1116000" y="836640"/>
            <a:ext cx="705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ля организации дорожного движ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чали появляться дорожные знак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3"/>
          <p:cNvSpPr txBox="1"/>
          <p:nvPr/>
        </p:nvSpPr>
        <p:spPr>
          <a:xfrm>
            <a:off x="1187280" y="2349360"/>
            <a:ext cx="691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3 год - первые дорожные знаки в Париж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11 год - первые дорожные знаки в 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3276720" y="4076640"/>
            <a:ext cx="5113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разных странах дорож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наки одинаков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2143440" cy="28576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6">
            <a:hlinkClick r:id="" action="ppaction://hlinkshowjump?jump=nextslide"/>
          </p:cNvPr>
          <p:cNvSpPr/>
          <p:nvPr/>
        </p:nvSpPr>
        <p:spPr>
          <a:xfrm>
            <a:off x="8101080" y="6093000"/>
            <a:ext cx="574560" cy="43164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746" h="21600">
                <a:moveTo>
                  <a:pt x="0" y="0"/>
                </a:moveTo>
                <a:lnTo>
                  <a:pt x="28746" y="0"/>
                </a:lnTo>
                <a:lnTo>
                  <a:pt x="28746" y="21600"/>
                </a:lnTo>
                <a:lnTo>
                  <a:pt x="0" y="21600"/>
                </a:lnTo>
                <a:close/>
              </a:path>
              <a:path fill="lightenLess" w="28746" h="21600">
                <a:moveTo>
                  <a:pt x="0" y="0"/>
                </a:moveTo>
                <a:lnTo>
                  <a:pt x="28746" y="0"/>
                </a:lnTo>
                <a:lnTo>
                  <a:pt x="27346" y="1400"/>
                </a:lnTo>
                <a:lnTo>
                  <a:pt x="1400" y="1400"/>
                </a:lnTo>
                <a:close/>
              </a:path>
              <a:path fill="darken" w="28746" h="21600">
                <a:moveTo>
                  <a:pt x="28746" y="0"/>
                </a:moveTo>
                <a:lnTo>
                  <a:pt x="28746" y="21600"/>
                </a:lnTo>
                <a:lnTo>
                  <a:pt x="27346" y="20200"/>
                </a:lnTo>
                <a:lnTo>
                  <a:pt x="27346" y="1400"/>
                </a:lnTo>
                <a:close/>
              </a:path>
              <a:path fill="darkenLess" w="28746" h="21600">
                <a:moveTo>
                  <a:pt x="28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6" y="20200"/>
                </a:lnTo>
                <a:close/>
              </a:path>
              <a:path fill="lighten" w="28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6" h="21600">
                <a:moveTo>
                  <a:pt x="7367" y="3794"/>
                </a:moveTo>
                <a:lnTo>
                  <a:pt x="21379" y="10800"/>
                </a:lnTo>
                <a:lnTo>
                  <a:pt x="7367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разговаривает у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18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упреждающие зн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рещающие зн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писывающие зн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формационно-указательные  зн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ки серв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упреждающи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"/>
          <p:cNvPicPr/>
          <p:nvPr/>
        </p:nvPicPr>
        <p:blipFill>
          <a:blip r:embed="rId1"/>
          <a:stretch/>
        </p:blipFill>
        <p:spPr>
          <a:xfrm>
            <a:off x="755640" y="4221000"/>
            <a:ext cx="7777080" cy="1944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7777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2050920" y="692280"/>
            <a:ext cx="5295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упреждающи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WordArt 5"/>
          <p:cNvSpPr txBox="1"/>
          <p:nvPr/>
        </p:nvSpPr>
        <p:spPr>
          <a:xfrm>
            <a:off x="2484360" y="1916280"/>
            <a:ext cx="417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едупреждают водител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 приближении к опасном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астку доро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6"/>
          <p:cNvSpPr txBox="1"/>
          <p:nvPr/>
        </p:nvSpPr>
        <p:spPr>
          <a:xfrm>
            <a:off x="2700360" y="400536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WordArt 7"/>
          <p:cNvSpPr txBox="1"/>
          <p:nvPr/>
        </p:nvSpPr>
        <p:spPr>
          <a:xfrm>
            <a:off x="2987640" y="4724280"/>
            <a:ext cx="331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лый треугольн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 красной кайм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1812960" cy="1608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1800000" cy="1596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3"/>
          <a:stretch/>
        </p:blipFill>
        <p:spPr>
          <a:xfrm>
            <a:off x="6948360" y="1628640"/>
            <a:ext cx="1727280" cy="1532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"/>
          <p:cNvPicPr/>
          <p:nvPr/>
        </p:nvPicPr>
        <p:blipFill>
          <a:blip r:embed="rId4"/>
          <a:stretch/>
        </p:blipFill>
        <p:spPr>
          <a:xfrm>
            <a:off x="6948360" y="4292640"/>
            <a:ext cx="1727280" cy="152064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12">
            <a:hlinkClick r:id="" action="ppaction://hlinkshowjump?jump=nextslide"/>
          </p:cNvPr>
          <p:cNvSpPr/>
          <p:nvPr/>
        </p:nvSpPr>
        <p:spPr>
          <a:xfrm>
            <a:off x="8101080" y="6093000"/>
            <a:ext cx="574560" cy="43164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746" h="21600">
                <a:moveTo>
                  <a:pt x="0" y="0"/>
                </a:moveTo>
                <a:lnTo>
                  <a:pt x="28746" y="0"/>
                </a:lnTo>
                <a:lnTo>
                  <a:pt x="28746" y="21600"/>
                </a:lnTo>
                <a:lnTo>
                  <a:pt x="0" y="21600"/>
                </a:lnTo>
                <a:close/>
              </a:path>
              <a:path fill="lightenLess" w="28746" h="21600">
                <a:moveTo>
                  <a:pt x="0" y="0"/>
                </a:moveTo>
                <a:lnTo>
                  <a:pt x="28746" y="0"/>
                </a:lnTo>
                <a:lnTo>
                  <a:pt x="27346" y="1400"/>
                </a:lnTo>
                <a:lnTo>
                  <a:pt x="1400" y="1400"/>
                </a:lnTo>
                <a:close/>
              </a:path>
              <a:path fill="darken" w="28746" h="21600">
                <a:moveTo>
                  <a:pt x="28746" y="0"/>
                </a:moveTo>
                <a:lnTo>
                  <a:pt x="28746" y="21600"/>
                </a:lnTo>
                <a:lnTo>
                  <a:pt x="27346" y="20200"/>
                </a:lnTo>
                <a:lnTo>
                  <a:pt x="27346" y="1400"/>
                </a:lnTo>
                <a:close/>
              </a:path>
              <a:path fill="darkenLess" w="28746" h="21600">
                <a:moveTo>
                  <a:pt x="28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6" y="20200"/>
                </a:lnTo>
                <a:close/>
              </a:path>
              <a:path fill="lighten" w="28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6" h="21600">
                <a:moveTo>
                  <a:pt x="7367" y="3794"/>
                </a:moveTo>
                <a:lnTo>
                  <a:pt x="21379" y="10800"/>
                </a:lnTo>
                <a:lnTo>
                  <a:pt x="7367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рещающи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0"/>
          <a:ext cx="208080" cy="884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58"/>
          <p:cNvSpPr/>
          <p:nvPr/>
        </p:nvSpPr>
        <p:spPr>
          <a:xfrm>
            <a:off x="1800" y="883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1800360"/>
          <a:ext cx="208080" cy="857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Rectangle 70"/>
          <p:cNvSpPr/>
          <p:nvPr/>
        </p:nvSpPr>
        <p:spPr>
          <a:xfrm>
            <a:off x="1800" y="26571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1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1357560" cy="1441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3" descr=""/>
          <p:cNvPicPr/>
          <p:nvPr/>
        </p:nvPicPr>
        <p:blipFill>
          <a:blip r:embed="rId2"/>
          <a:stretch/>
        </p:blipFill>
        <p:spPr>
          <a:xfrm>
            <a:off x="2771640" y="170028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2" descr=""/>
          <p:cNvPicPr/>
          <p:nvPr/>
        </p:nvPicPr>
        <p:blipFill>
          <a:blip r:embed="rId3"/>
          <a:stretch/>
        </p:blipFill>
        <p:spPr>
          <a:xfrm>
            <a:off x="4643280" y="1771560"/>
            <a:ext cx="1511280" cy="14083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0"/>
          <a:ext cx="208080" cy="857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85"/>
          <p:cNvSpPr/>
          <p:nvPr/>
        </p:nvSpPr>
        <p:spPr>
          <a:xfrm>
            <a:off x="1800" y="856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6" descr=""/>
          <p:cNvPicPr/>
          <p:nvPr/>
        </p:nvPicPr>
        <p:blipFill>
          <a:blip r:embed="rId4"/>
          <a:stretch/>
        </p:blipFill>
        <p:spPr>
          <a:xfrm>
            <a:off x="6516720" y="1700280"/>
            <a:ext cx="1512720" cy="1490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7" descr=""/>
          <p:cNvPicPr/>
          <p:nvPr/>
        </p:nvPicPr>
        <p:blipFill>
          <a:blip r:embed="rId5"/>
          <a:stretch/>
        </p:blipFill>
        <p:spPr>
          <a:xfrm>
            <a:off x="324000" y="3789360"/>
            <a:ext cx="2447640" cy="1584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8" descr=""/>
          <p:cNvPicPr/>
          <p:nvPr/>
        </p:nvPicPr>
        <p:blipFill>
          <a:blip r:embed="rId6"/>
          <a:stretch/>
        </p:blipFill>
        <p:spPr>
          <a:xfrm>
            <a:off x="7093080" y="3789360"/>
            <a:ext cx="1439640" cy="1523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9" descr=""/>
          <p:cNvPicPr/>
          <p:nvPr/>
        </p:nvPicPr>
        <p:blipFill>
          <a:blip r:embed="rId7"/>
          <a:stretch/>
        </p:blipFill>
        <p:spPr>
          <a:xfrm>
            <a:off x="5076720" y="3789360"/>
            <a:ext cx="1511280" cy="1568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0" descr=""/>
          <p:cNvPicPr/>
          <p:nvPr/>
        </p:nvPicPr>
        <p:blipFill>
          <a:blip r:embed="rId8"/>
          <a:stretch/>
        </p:blipFill>
        <p:spPr>
          <a:xfrm>
            <a:off x="3132000" y="3789360"/>
            <a:ext cx="15130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3:30:42Z</dcterms:created>
  <dc:creator>User</dc:creator>
  <dc:description/>
  <dc:language>en-US</dc:language>
  <cp:lastModifiedBy>Пользователь</cp:lastModifiedBy>
  <dcterms:modified xsi:type="dcterms:W3CDTF">2020-10-14T17:49:55Z</dcterms:modified>
  <cp:revision>21</cp:revision>
  <dc:subject/>
  <dc:title>Дорожные знаки и светофор</dc:title>
</cp:coreProperties>
</file>