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gif" ContentType="image/gif"/>
  <Override PartName="/ppt/media/image10.jpeg" ContentType="image/jpeg"/>
  <Override PartName="/ppt/media/image27.jpeg" ContentType="image/jpeg"/>
  <Override PartName="/ppt/media/image62.jpeg" ContentType="image/jpeg"/>
  <Override PartName="/ppt/media/image4.gif" ContentType="image/gif"/>
  <Override PartName="/ppt/media/image2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56.gif" ContentType="image/gif"/>
  <Override PartName="/ppt/media/image23.jpeg" ContentType="image/jpeg"/>
  <Override PartName="/ppt/media/image5.gif" ContentType="image/gif"/>
  <Override PartName="/ppt/media/image38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9.gif" ContentType="image/gif"/>
  <Override PartName="/ppt/media/image49.gif" ContentType="image/gif"/>
  <Override PartName="/ppt/media/image17.jpeg" ContentType="image/jpeg"/>
  <Override PartName="/ppt/media/image26.gif" ContentType="image/gif"/>
  <Override PartName="/ppt/media/image65.png" ContentType="image/png"/>
  <Override PartName="/ppt/media/image21.jpeg" ContentType="image/jpeg"/>
  <Override PartName="/ppt/media/image9.png" ContentType="image/png"/>
  <Override PartName="/ppt/media/image6.gif" ContentType="image/gif"/>
  <Override PartName="/ppt/media/image16.jpeg" ContentType="image/jpeg"/>
  <Override PartName="/ppt/media/image19.jpeg" ContentType="image/jpeg"/>
  <Override PartName="/ppt/media/image32.gif" ContentType="image/gif"/>
  <Override PartName="/ppt/media/image61.jpeg" ContentType="image/jpeg"/>
  <Override PartName="/ppt/media/image14.jpeg" ContentType="image/jpeg"/>
  <Override PartName="/ppt/media/image41.jpeg" ContentType="image/jpeg"/>
  <Override PartName="/ppt/media/image63.gif" ContentType="image/gif"/>
  <Override PartName="/ppt/media/image18.jpeg" ContentType="image/jpeg"/>
  <Override PartName="/ppt/media/image8.gif" ContentType="image/gif"/>
  <Override PartName="/ppt/media/image12.jpeg" ContentType="image/jpeg"/>
  <Override PartName="/ppt/media/image13.jpeg" ContentType="image/jpeg"/>
  <Override PartName="/ppt/media/image51.gif" ContentType="image/gif"/>
  <Override PartName="/ppt/media/image30.gif" ContentType="image/gif"/>
  <Override PartName="/ppt/media/image31.jpeg" ContentType="image/jpeg"/>
  <Override PartName="/ppt/media/image33.gif" ContentType="image/gif"/>
  <Override PartName="/ppt/media/image34.jpeg" ContentType="image/jpeg"/>
  <Override PartName="/ppt/media/image35.jpeg" ContentType="image/jpeg"/>
  <Override PartName="/ppt/media/image54.gif" ContentType="image/gif"/>
  <Override PartName="/ppt/media/image39.jpeg" ContentType="image/jpeg"/>
  <Override PartName="/ppt/media/image40.gif" ContentType="image/gif"/>
  <Override PartName="/ppt/media/image25.gif" ContentType="image/gif"/>
  <Override PartName="/ppt/media/image43.jpeg" ContentType="image/jpeg"/>
  <Override PartName="/ppt/media/image7.gif" ContentType="image/gif"/>
  <Override PartName="/ppt/media/image44.wmf" ContentType="image/x-wmf"/>
  <Override PartName="/ppt/media/image48.gif" ContentType="image/gif"/>
  <Override PartName="/ppt/media/image45.jpeg" ContentType="image/jpeg"/>
  <Override PartName="/ppt/media/image47.gif" ContentType="image/gif"/>
  <Override PartName="/ppt/media/image50.gif" ContentType="image/gif"/>
  <Override PartName="/ppt/media/image20.jpeg" ContentType="image/jpeg"/>
  <Override PartName="/ppt/media/image52.gif" ContentType="image/gif"/>
  <Override PartName="/ppt/media/image1.wmf" ContentType="image/x-wmf"/>
  <Override PartName="/ppt/media/image53.gif" ContentType="image/gif"/>
  <Override PartName="/ppt/media/image46.jpeg" ContentType="image/jpeg"/>
  <Override PartName="/ppt/media/image5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C46-AA03-4D03-A5D5-B5B12BE5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E17-5512-43C5-95EB-76F8DACB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DE5-22A9-4FD4-85A4-A6E20441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065-4832-4497-9E0A-24ADD46D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355-A2E4-43B5-8527-3DD3541A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BBC-3DFA-4D5B-9413-C476AD14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589-BAFB-45C3-AADA-2CE8DAF6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356-9581-4D62-86B0-D8F2DD06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B4B-7885-42AC-A87C-4F7D42ED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A9F-197E-4011-89D5-9E8A79F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888-6DA9-4952-AB8E-56898884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F59-5AEB-40BB-9854-419E9C76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EED4-71FA-4E24-A2CB-0194F6F4D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image" Target="../media/image49.gif"/><Relationship Id="rId7" Type="http://schemas.openxmlformats.org/officeDocument/2006/relationships/image" Target="../media/image50.gif"/><Relationship Id="rId8" Type="http://schemas.openxmlformats.org/officeDocument/2006/relationships/image" Target="../media/image51.gif"/><Relationship Id="rId9" Type="http://schemas.openxmlformats.org/officeDocument/2006/relationships/image" Target="../media/image52.gif"/><Relationship Id="rId10" Type="http://schemas.openxmlformats.org/officeDocument/2006/relationships/image" Target="../media/image5.gif"/><Relationship Id="rId11" Type="http://schemas.openxmlformats.org/officeDocument/2006/relationships/image" Target="../media/image53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55.gif"/><Relationship Id="rId5" Type="http://schemas.openxmlformats.org/officeDocument/2006/relationships/image" Target="../media/image56.gif"/><Relationship Id="rId6" Type="http://schemas.openxmlformats.org/officeDocument/2006/relationships/image" Target="../media/image5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5;&#1086;&#1083;&#1086;&#1089;%20&#1087;&#1090;&#1080;&#1094;.wav" TargetMode="External"/><Relationship Id="rId2" Type="http://schemas.microsoft.com/office/2007/relationships/media" Target="file:///tmp/home/.config/libreoffice/4/user/gallery/&#1075;&#1086;&#1083;&#1086;&#1089;%20&#1087;&#1090;&#1080;&#1094;.wav" TargetMode="External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УТЕШЕСТВИЕ ПО ЭКОЛОГИЧЕСКОЙ ТРО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ЛЕС И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1474560" cy="181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905120" cy="1625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49417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НАБРОСАЛ   МУС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4980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410508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58920" y="62064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ПОМОГИТ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Что  такое  эколо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942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Наш слова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«Экос»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«Логос»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ученье, нау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(в перевод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греческого язы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92720" y="1413000"/>
            <a:ext cx="367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Baskerville Old Face"/>
              </a:rPr>
              <a:t>Экология</a:t>
            </a:r>
            <a:r>
              <a:rPr b="1" i="1" lang="en-US" sz="4400" spc="-1" strike="noStrike">
                <a:solidFill>
                  <a:srgbClr val="ff0000"/>
                </a:solidFill>
                <a:latin typeface="Baskerville Old Face"/>
              </a:rPr>
              <a:t> –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askerville Old Face"/>
              </a:rPr>
              <a:t>о нашем общ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askerville Old Face"/>
              </a:rPr>
              <a:t>доме – планете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208908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– наука о связях между живыми существами и 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окружающей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09640" y="1866960"/>
            <a:ext cx="7992360" cy="4175280"/>
            <a:chOff x="809640" y="1866960"/>
            <a:chExt cx="7992360" cy="4175280"/>
          </a:xfrm>
        </p:grpSpPr>
        <p:cxnSp>
          <p:nvCxnSpPr>
            <p:cNvPr id="103" name="_s34821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786640" y="255492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34822"/>
            <p:cNvCxnSpPr>
              <a:stCxn id="107" idx="0"/>
              <a:endCxn id="105" idx="2"/>
            </p:cNvCxnSpPr>
            <p:nvPr/>
          </p:nvCxnSpPr>
          <p:spPr>
            <a:xfrm flipV="1">
              <a:off x="4806000" y="3536280"/>
              <a:ext cx="2880" cy="83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34823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2989440" y="255528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34824"/>
            <p:cNvSpPr/>
            <p:nvPr/>
          </p:nvSpPr>
          <p:spPr>
            <a:xfrm>
              <a:off x="3606840" y="186696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Экологичес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связ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4825"/>
            <p:cNvSpPr/>
            <p:nvPr/>
          </p:nvSpPr>
          <p:spPr>
            <a:xfrm>
              <a:off x="8096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4826"/>
            <p:cNvSpPr/>
            <p:nvPr/>
          </p:nvSpPr>
          <p:spPr>
            <a:xfrm>
              <a:off x="36068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7"/>
            <p:cNvSpPr/>
            <p:nvPr/>
          </p:nvSpPr>
          <p:spPr>
            <a:xfrm>
              <a:off x="640440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86920" y="4581360"/>
              <a:ext cx="1584360" cy="57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и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116000" y="5300640"/>
            <a:ext cx="170640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е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4581360"/>
            <a:ext cx="1584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4869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4869000"/>
            <a:ext cx="287640" cy="576000"/>
          </a:xfrm>
          <a:custGeom>
            <a:avLst/>
            <a:gdLst>
              <a:gd name="textAreaLeft" fmla="*/ 38520 w 287640"/>
              <a:gd name="textAreaRight" fmla="*/ 249120 w 28764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4508640"/>
            <a:ext cx="180000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229360"/>
            <a:ext cx="1728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216000" cy="57492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440 h 574920"/>
              <a:gd name="textAreaBottom" fmla="*/ 41688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4941720"/>
            <a:ext cx="216000" cy="6462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4508640"/>
            <a:ext cx="172692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300640"/>
            <a:ext cx="17067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4941720"/>
            <a:ext cx="216000" cy="648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32720" y="486900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993080" cy="5994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048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451640" y="3789360"/>
            <a:ext cx="771480" cy="92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236000" y="4653000"/>
            <a:ext cx="129672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7280" y="4365720"/>
            <a:ext cx="863640" cy="834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1476360" y="1916280"/>
            <a:ext cx="1008000" cy="976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419640" y="5013360"/>
            <a:ext cx="1390320" cy="1209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2411280" y="1341360"/>
            <a:ext cx="792360" cy="65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3995640" y="177336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6084720" y="3860640"/>
            <a:ext cx="166716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7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177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649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68360" y="2781360"/>
            <a:ext cx="5616720" cy="50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3284640"/>
            <a:ext cx="475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3789360"/>
            <a:ext cx="475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4437000"/>
            <a:ext cx="395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5013360"/>
            <a:ext cx="790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5013360"/>
            <a:ext cx="1512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453360"/>
            <a:ext cx="79200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2276640"/>
            <a:ext cx="72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2205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170028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1197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20000" y="692280"/>
            <a:ext cx="86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 rot="10800000">
            <a:off x="7018920" y="189000"/>
            <a:ext cx="86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1197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197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134136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78136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551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59500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85128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2781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000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85264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11280" y="2852640"/>
            <a:ext cx="5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55840" y="2852640"/>
            <a:ext cx="36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24360" y="2349360"/>
            <a:ext cx="5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2852640"/>
            <a:ext cx="43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2852640"/>
            <a:ext cx="50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7840" y="1197000"/>
            <a:ext cx="3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1197000"/>
            <a:ext cx="43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18360" y="857160"/>
            <a:ext cx="1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0000" y="189000"/>
            <a:ext cx="64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29280" y="23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17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30760" y="2409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90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5364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6028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72692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812000" y="3645000"/>
            <a:ext cx="10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300720" y="5516640"/>
            <a:ext cx="1943280" cy="1096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1760400" cy="136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8172360" y="404640"/>
            <a:ext cx="69552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2987640" y="26028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160360" cy="324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529160" cy="325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050920" y="3284640"/>
            <a:ext cx="273708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724360" y="4653000"/>
            <a:ext cx="3024360" cy="198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979640" y="1125360"/>
            <a:ext cx="2736720" cy="2016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250920" y="4869000"/>
            <a:ext cx="158436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8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02280" cy="5851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940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08720" y="4941720"/>
            <a:ext cx="1152720" cy="148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96000" y="263700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300720" y="836640"/>
            <a:ext cx="666720" cy="88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851280" y="4508640"/>
            <a:ext cx="2449440" cy="201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124000" y="5589720"/>
            <a:ext cx="71460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55640" y="83664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32720" y="1197000"/>
            <a:ext cx="1152360" cy="95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956720" y="907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17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64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02280" cy="604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755640" y="3357720"/>
            <a:ext cx="763272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302436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3640" y="3284640"/>
            <a:ext cx="295272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3440" y="3284640"/>
            <a:ext cx="285444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300720" y="3284640"/>
            <a:ext cx="273384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42920" y="189000"/>
            <a:ext cx="284472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300720" y="189000"/>
            <a:ext cx="267516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3040" y="260280"/>
            <a:ext cx="24973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2592360" cy="2768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32000" y="260280"/>
            <a:ext cx="2781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7115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348000" y="3786120"/>
            <a:ext cx="2448000" cy="2738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300720" y="3789360"/>
            <a:ext cx="2592360" cy="2735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1116000" y="2133720"/>
            <a:ext cx="309708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932360" y="2133720"/>
            <a:ext cx="316692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325520"/>
            <a:ext cx="4824720" cy="3327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227640" y="4437000"/>
            <a:ext cx="2627280" cy="205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227640" y="549360"/>
            <a:ext cx="2376720" cy="1741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473640" cy="4970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4248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867280" y="357336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050920" y="3716280"/>
            <a:ext cx="1476360" cy="1657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95480" y="333360"/>
            <a:ext cx="67896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ЫРУБИЛ  Л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31928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308720" y="1268280"/>
            <a:ext cx="151308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52000" y="692280"/>
            <a:ext cx="792000" cy="1334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1368360" cy="1844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18900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РАЗВЁЛ КОСТ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788000" y="3645000"/>
            <a:ext cx="417672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96108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3816360" cy="280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200560" y="4024440"/>
            <a:ext cx="325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0244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ГРЯЗНИЛ</a:t>
            </a:r>
            <a:br>
              <a:rPr sz="40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ОДОЁ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РАВИЛ ВОЗД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388764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42920" y="5229360"/>
            <a:ext cx="1952640" cy="100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45:09Z</dcterms:created>
  <dc:creator>USER</dc:creator>
  <dc:description/>
  <dc:language>en-US</dc:language>
  <cp:lastModifiedBy>ольга</cp:lastModifiedBy>
  <dcterms:modified xsi:type="dcterms:W3CDTF">2010-01-16T19:18:18Z</dcterms:modified>
  <cp:revision>19</cp:revision>
  <dc:subject/>
  <dc:title>Слайд 1</dc:title>
</cp:coreProperties>
</file>